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F80-3841-448D-88B6-B7A58AA2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CA7-1E96-480C-A1C2-849360EE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918-2C61-4006-9C05-F3920CFB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AD0-681A-44C3-AE79-20C723F6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A40E-6D50-4A0B-B167-E9C2A611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CA62-EA85-4344-8C57-9D91D541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C05B-EF40-405B-B22B-06623591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4E56-B8FF-4E6B-9E07-D3412EEF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95AA-8194-4F71-9043-3A652931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6731-7D5D-4516-9DD5-DC9B29A2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A456-BCAA-4832-98E8-F3B68407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A20-2C5A-4EFE-923E-0E994A9F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155B-7BCF-4EE9-A2E2-4E59B992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7800-050F-44DF-9B9B-8DCED398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E582-6ECA-42E8-8444-88B082BA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EC43-63A9-43B5-89CC-C810E7C1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78FA-D0CD-40B6-BB85-247FDC75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5F109-5A9C-446D-9E1E-8B95D74B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679B3-5D83-4044-A4A1-299E3FF0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69C6C-B959-42F2-B770-2C80FC3C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1555F-8E9B-4FF2-AD5C-E30421C4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0F067-5B80-4831-A923-E9B4043B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CB0-8836-4F39-BA01-3D3C23F1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8995B-04A9-4AAE-AED4-3BB4E808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CC107-5F92-4159-A197-A637DDD8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34D7E-6DD6-4DBC-B5BC-0A0BDC9E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DFD75-765D-49B3-9A45-6AE08547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22A8D-4CD8-4F88-BEE0-C7643BAE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9D0EA-60C2-4678-B6BE-87B8BE42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8F687-7343-4195-8EC8-6073668A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61B22-0B33-4651-A3E2-358EA3B7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2E35B-1ACE-4309-BC0C-37B8BFA1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BD017-3B6C-4043-8A9B-E6FF78AD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F8E-3D22-4C18-B1B0-96647741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C66AC-FCD6-46CC-B89D-8E41262E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76183-2065-435B-995B-4BA3C7A9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E7BD6-C408-4C9F-AC5F-E01C3C37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4F726-D4F4-4671-A7DB-7D005E13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C23FB-49D5-44DF-BC08-E9D66B14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EFD86-90EF-4C8E-80C2-7F3167AC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740C9-D70A-43F6-9F02-2A36BB23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A7EFA-3232-453B-B1E3-BE7A85E1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FF52A-88DF-49BB-B773-67E7FEB7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221F2-133F-4BE6-A1FE-3D5C0DA5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EEA-8342-4767-AD3F-6AD0FFD6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50493-7CEE-411A-A61B-07145E05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A9EED-620E-4556-8EB4-3291C71B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52D11-774C-45CD-9F0F-B351213B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2FAC5-AEAF-434C-A43C-2896BEBE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FFD30-363B-4CD1-9BEE-F3AC66C0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AC7AC-316B-4A7C-91A6-F6CB6DEA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92A3E-839A-49D0-ACFB-09F3F8E9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CACE7-6E00-4F6C-91AA-AB4A6925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B53BD-70BB-4FAA-AC44-F0F6A2AF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211B9-0B53-44FA-9D21-C5540666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FE8-1398-4BBD-9910-8287525D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63766-8B53-4DD7-BB88-9A57F1A7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374C11-F663-4C0E-B1B9-422690A7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2E56A-51E5-4AC4-897B-051877F8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80A95-FF2E-40DB-B42E-4D265320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5069A-0534-470A-B16E-6C9EA90B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EC4C8-BC24-4123-B66F-2264F71F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236BF-9093-498E-A0B8-3913A168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DCAAE-1AB4-4F4C-BEBF-3E582D5D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0D9915-E112-48B8-8712-818C878C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FBEC8-4CC7-4C26-8F16-C744D9AF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701-CAA6-449A-B619-2AC89AD3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6F49C-D6CD-46B7-930B-82E469B8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3730E-F224-47B4-BAD9-C7EC1829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48DA3-6C58-4FBB-B462-867D1F92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D1655F-ADD1-4EFE-87D0-5D54E460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E520F-EF68-46CB-B777-E80460FD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4F3CB7-96E7-4931-B48E-6F5A5257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67E154-9085-4EC5-9B78-EA70AB67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C1007-315B-4CB1-BD62-5EB56709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954E28-68ED-4960-85A1-CC711ECB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B15777-1D6A-4BCD-ACB0-0A81D734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48D-D0D3-4EA7-87DD-36E78CD5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8F35C-B722-4031-AD1B-4DB09D5F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7D759B-B738-4670-92B2-AC07B811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A8EB7-87EF-40C2-BB23-170CEA0C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79140-213A-4FF2-BC9D-0F9E9516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F8A7D7-8438-41E8-8B4D-58526489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0EA-5ABC-44A4-A186-558EC117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556C-109B-48CE-A14F-24857798506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261D-A2BA-4D9D-AA8D-89CA960756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619E-C81B-4A7A-9E17-6D2B2FE4BCE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908F-1C26-47AE-9DE5-459E86EADA9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042B-1F5B-4FD4-BE31-4CD2147AC3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73AF-82C7-4FE5-AA64-DE66985779B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A0F2-3A7D-4665-86A7-0DD01D75D2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56920" y="128556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ГДЕ В ПРАКТИЧЕСКОЙ ЖИЗНИ ИСПОЛЬЗУЕТСЯ СИСТЕМА КООРДИНАТ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еник 6 класса Жёркин Егор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763272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1" descr="Рисунок21"/>
          <p:cNvPicPr/>
          <p:nvPr/>
        </p:nvPicPr>
        <p:blipFill>
          <a:blip r:embed="rId2"/>
          <a:stretch/>
        </p:blipFill>
        <p:spPr>
          <a:xfrm>
            <a:off x="500040" y="1214280"/>
            <a:ext cx="74296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ВЫВОД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ка я делал этот проект, я узнал, что такое система координат, оси координат, как находить точку по координатам. А самое главное – я узнал, где в практической жизни используется система координат, что может мне пригодится при выборе будущей професси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14520" y="785520"/>
            <a:ext cx="37098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БОЛЕЕ ЧЕМ ЗА 100 ЛЕТ ДО Н.Э. ГРЕЧЕСКИЙ УЧЁНЫЙ ГИППАРХ ПРЕДЛОЖИЛ ОПОЯСАТЬ НА КАРТЕ ЗЕМНОЙ ШАР ПАРАЛЛЕЛЯМИ И МЕРИДИАНАМИ И ВВЕСТИ, ТЕПЕРЬ ХОРОШО ИЗВЕСТНЫЕ, ГЕОГРАФИЧЕСКИЕ КООРДИНАТЫ: ШИРОТУ И ДОЛГОТУ, И ОБОЗНАЧИТЬ ИХ ЧИСЛАМИ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6" descr="Рисунок8"/>
          <p:cNvPicPr/>
          <p:nvPr/>
        </p:nvPicPr>
        <p:blipFill>
          <a:blip r:embed="rId1"/>
          <a:stretch/>
        </p:blipFill>
        <p:spPr>
          <a:xfrm>
            <a:off x="285840" y="1571760"/>
            <a:ext cx="27525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368604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entury Schoolbook"/>
              </a:rPr>
              <a:t>ВО </a:t>
            </a:r>
            <a:r>
              <a:rPr b="0" lang="en-US" sz="3200" spc="-1" strike="noStrike">
                <a:solidFill>
                  <a:srgbClr val="0070c0"/>
                </a:solidFill>
                <a:latin typeface="Century Schoolbook"/>
              </a:rPr>
              <a:t>II </a:t>
            </a:r>
            <a:r>
              <a:rPr b="0" lang="ru-RU" sz="3200" spc="-1" strike="noStrike">
                <a:solidFill>
                  <a:srgbClr val="0070c0"/>
                </a:solidFill>
                <a:latin typeface="Century Schoolbook"/>
              </a:rPr>
              <a:t>ВЕКЕ Н.Э. ЗНАМЕНИТЫЙ ДРЕВНЕГРЕЧЕСКИЙ АСТРОНОМ КЛАВДИЙ ПТОЛЕМЕЙ УЖЕ ПОЛЬЗОВАЛСЯ ДОЛГОТОЙ И ШИРОТОЙ В КАЧЕСТВЕ ГЕОГРАФИЧЕСКИХ КООРДИНАТ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6" descr="Рисунок20"/>
          <p:cNvPicPr/>
          <p:nvPr/>
        </p:nvPicPr>
        <p:blipFill>
          <a:blip r:embed="rId1"/>
          <a:stretch/>
        </p:blipFill>
        <p:spPr>
          <a:xfrm>
            <a:off x="5286240" y="0"/>
            <a:ext cx="3052800" cy="3286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"/>
          <p:cNvPicPr/>
          <p:nvPr/>
        </p:nvPicPr>
        <p:blipFill>
          <a:blip r:embed="rId2"/>
          <a:stretch/>
        </p:blipFill>
        <p:spPr>
          <a:xfrm>
            <a:off x="4214880" y="3357720"/>
            <a:ext cx="4572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10" descr="Рисунок3"/>
          <p:cNvPicPr/>
          <p:nvPr/>
        </p:nvPicPr>
        <p:blipFill>
          <a:blip r:embed="rId1"/>
          <a:stretch/>
        </p:blipFill>
        <p:spPr>
          <a:xfrm>
            <a:off x="214200" y="0"/>
            <a:ext cx="4057920" cy="4000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Рисунок4"/>
          <p:cNvPicPr/>
          <p:nvPr/>
        </p:nvPicPr>
        <p:blipFill>
          <a:blip r:embed="rId2"/>
          <a:stretch/>
        </p:blipFill>
        <p:spPr>
          <a:xfrm>
            <a:off x="4429080" y="3676680"/>
            <a:ext cx="4267080" cy="31813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5"/>
          <p:cNvSpPr/>
          <p:nvPr/>
        </p:nvSpPr>
        <p:spPr>
          <a:xfrm>
            <a:off x="928800" y="485784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Система географических координа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TextBox 7"/>
          <p:cNvSpPr/>
          <p:nvPr/>
        </p:nvSpPr>
        <p:spPr>
          <a:xfrm>
            <a:off x="5000760" y="10717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Широта – параллели, долгота - меридиа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entury Schoolbook"/>
              </a:rPr>
              <a:t>ЧТОБЫ ПРАВИЛЬНО ЗАНЯТЬ СВОЁ МЕСТО В КИНОТЕАТРЕ, НУЖНО ЗНАТЬ ДВЕ КООРДИНАТЫ – РЯД И МЕСТО.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6" descr="Рисунок1"/>
          <p:cNvPicPr/>
          <p:nvPr/>
        </p:nvPicPr>
        <p:blipFill>
          <a:blip r:embed="rId1"/>
          <a:stretch/>
        </p:blipFill>
        <p:spPr>
          <a:xfrm>
            <a:off x="642960" y="1500120"/>
            <a:ext cx="72151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В ИГРЕ «МОРСКОЙ БОЙ» КАЖДАЯ КЛЕТКА НА ИГРОВОМ ПОЛЕ ОПРЕДЕЛЯЕТСЯ ДВУМЯ КООРДИНАТАМИ – БУКВОЙ И ЦИФРОЙ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3324240" cy="31719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4000680" y="1428840"/>
            <a:ext cx="4305240" cy="3848040"/>
          </a:xfrm>
          <a:prstGeom prst="rect">
            <a:avLst/>
          </a:prstGeom>
          <a:ln w="0">
            <a:noFill/>
          </a:ln>
        </p:spPr>
      </p:pic>
      <p:sp>
        <p:nvSpPr>
          <p:cNvPr id="367" name="TextBox 5"/>
          <p:cNvSpPr/>
          <p:nvPr/>
        </p:nvSpPr>
        <p:spPr>
          <a:xfrm>
            <a:off x="4416840" y="564372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entury Schoolbook"/>
              </a:rPr>
              <a:t>Аналогично в шахмата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entury Schoolbook"/>
              </a:rPr>
              <a:t>С ПОМОЩЬЮ КООРДИНАТНОЙ СЕТКИ ЛЁТЧИКИ И МОРЯКИ ОПРЕДЕЛЯЮТ МЕСТОПОЛОЖЕНИЕ ОБЪЕКТОВ.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12" descr="Рисунок6"/>
          <p:cNvPicPr/>
          <p:nvPr/>
        </p:nvPicPr>
        <p:blipFill>
          <a:blip r:embed="rId1"/>
          <a:stretch/>
        </p:blipFill>
        <p:spPr>
          <a:xfrm>
            <a:off x="457200" y="1849320"/>
            <a:ext cx="746748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68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714840" y="274320"/>
            <a:ext cx="421488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entury Schoolbook"/>
              </a:rPr>
              <a:t>РЕНЕ</a:t>
            </a:r>
            <a:r>
              <a:rPr b="1" lang="ru-RU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d60093"/>
                </a:solidFill>
                <a:latin typeface="Century Schoolbook"/>
              </a:rPr>
              <a:t>ДЕКАРТ </a:t>
            </a:r>
            <a:r>
              <a:rPr b="1" lang="ru-RU" sz="2400" spc="-1" strike="noStrike">
                <a:solidFill>
                  <a:srgbClr val="0000ff"/>
                </a:solidFill>
                <a:latin typeface="Century Schoolbook"/>
              </a:rPr>
              <a:t>(1596-1650) ФРАНЦУЗСКИЙ ФИЛОСОФ, ЕСТЕСТВОИСПЫТАТЕЛЬ, МАТЕМАТИК. ЦЕЛЬЮ ДЕКАРТА БЫЛО ОПИСАНИЕ ПРИРОДЫ ПРИ ПОМОЩИ МАТЕМАТИЧЕСКИХ ЗАКОНОВ. </a:t>
            </a:r>
            <a:r>
              <a:rPr b="1" lang="ru-RU" sz="2400" spc="-1" strike="noStrike">
                <a:solidFill>
                  <a:srgbClr val="d60093"/>
                </a:solidFill>
                <a:latin typeface="Century Schoolbook"/>
              </a:rPr>
              <a:t>АВТОР КООРДИНАТНОЙ ПЛОСКОСТИ</a:t>
            </a:r>
            <a:r>
              <a:rPr b="1" lang="ru-RU" sz="2400" spc="-1" strike="noStrike">
                <a:solidFill>
                  <a:srgbClr val="0000ff"/>
                </a:solidFill>
                <a:latin typeface="Century Schoolbook"/>
              </a:rPr>
              <a:t>, ПОЭТОМУ ЕЕ ЧАСТО НАЗЫВАЮТ </a:t>
            </a:r>
            <a:r>
              <a:rPr b="1" lang="ru-RU" sz="2400" spc="-1" strike="noStrike">
                <a:solidFill>
                  <a:srgbClr val="d60093"/>
                </a:solidFill>
                <a:latin typeface="Century Schoolbook"/>
              </a:rPr>
              <a:t>ДЕКАРТОВОЙ СИСТЕМОЙ КООРДИНАТ. 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6" descr="Рисунок9"/>
          <p:cNvPicPr/>
          <p:nvPr/>
        </p:nvPicPr>
        <p:blipFill>
          <a:blip r:embed="rId1"/>
          <a:stretch/>
        </p:blipFill>
        <p:spPr>
          <a:xfrm>
            <a:off x="142920" y="571680"/>
            <a:ext cx="3071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4:32:19Z</dcterms:created>
  <dc:creator>26519</dc:creator>
  <dc:description/>
  <dc:language>en-US</dc:language>
  <cp:lastModifiedBy>26519</cp:lastModifiedBy>
  <dcterms:modified xsi:type="dcterms:W3CDTF">2010-05-14T04:22:20Z</dcterms:modified>
  <cp:revision>9</cp:revision>
  <dc:subject/>
  <dc:title>Слайд 1</dc:title>
</cp:coreProperties>
</file>